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214D-25EB-44CA-956F-A713B278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AD62-C681-4851-BDE6-89BD4EB8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867F-98AF-4E94-8915-FD701AE8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D503-6495-46A0-960B-9D52E0F58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9D9D-D063-4400-A2A5-82A956B36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91F-27C3-4801-9F89-0015440B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017A-FECE-43B0-AD51-9709EBA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549C-26A9-4405-9853-693319EF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A3F3-C9A1-45EB-BC9D-0A075F69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FB5D-2EF0-4079-BE3F-0B330DBF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5503-95AC-4449-9626-86D58D4E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D790-11FC-482D-A5C8-0FD699A1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988-38BC-4503-928F-DA1D3344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1985-909C-4917-B0C8-5B60ABD7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D6B6-571D-456B-A3C4-89B44C14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71BE-439E-4B60-A423-8BE17C62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3A16B-3599-4383-8195-214CA380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F48-E8F3-43E7-8C7A-DEF8FA93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F95-DCAB-4DBE-BB80-5853DA4E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8BF1-5BE8-448D-98C0-F51C832F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45B0-7C8A-4528-95B4-3B274298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2317-BBF8-4930-AF74-BD36E7A2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F4D-93DF-4D09-BC5C-01D5494C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500-DD70-4E6E-860C-1E5CB725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A0B6-3F0C-4DC4-9C2C-A4271034E6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61A6-A0BD-4F73-A935-DA0F48A20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will_white25@hotmail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066320" y="4952880"/>
            <a:ext cx="70866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esentation of TI Calc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illiam Whi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_white25@hot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0"/>
            <a:ext cx="8915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8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xas Instru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12 Math Expl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in 1987, this solar powered wonder had many math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explor" descr=""/>
          <p:cNvPicPr/>
          <p:nvPr/>
        </p:nvPicPr>
        <p:blipFill>
          <a:blip r:embed="rId2"/>
          <a:stretch/>
        </p:blipFill>
        <p:spPr>
          <a:xfrm>
            <a:off x="4754520" y="1828800"/>
            <a:ext cx="347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68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88, the TI-68 came out as an improvement to the TI-12 Mat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68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1907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-II Plu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was released in 1991 as a powerful business calcu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baiip" descr=""/>
          <p:cNvPicPr/>
          <p:nvPr/>
        </p:nvPicPr>
        <p:blipFill>
          <a:blip r:embed="rId2"/>
          <a:stretch/>
        </p:blipFill>
        <p:spPr>
          <a:xfrm>
            <a:off x="4495680" y="2122560"/>
            <a:ext cx="39625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 Real Esta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Real Estate transactions, this was released in 199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are" descr=""/>
          <p:cNvPicPr/>
          <p:nvPr/>
        </p:nvPicPr>
        <p:blipFill>
          <a:blip r:embed="rId2"/>
          <a:stretch/>
        </p:blipFill>
        <p:spPr>
          <a:xfrm>
            <a:off x="4819680" y="1600200"/>
            <a:ext cx="378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lculator Based Laboratory (CBL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to the TI-73, TI-82, TI-83, TI-83+, TI-83+ SE, TI-85, TI-86, TI-89, TI-92, TI-92+, and Voyager 200. This was released in 199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cbl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258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lculator Based  Ranger (CBR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to the TI-73, TI-82, TI-83, TI-83+, TI-83+ SE, TI-85, TI-86, TI-89, TI-92, TI-92+, and Voyager 200. This was released in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cbr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33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-1080"/>
            <a:ext cx="815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lculator Based Laboratory 2 (CBL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to the TI-73, TI-82, TI-83, TI-83+, TI-83+ SE, TI-85, TI-86, TI-89, TI-92, TI-92+, and Voyager 200. I’m not sure when this was relea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TEXCBL2" descr=""/>
          <p:cNvPicPr/>
          <p:nvPr/>
        </p:nvPicPr>
        <p:blipFill>
          <a:blip r:embed="rId2"/>
          <a:stretch/>
        </p:blipFill>
        <p:spPr>
          <a:xfrm>
            <a:off x="2743200" y="2982960"/>
            <a:ext cx="41911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o Graph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aphing calculator was invented in 1990, &amp; was the TI-81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(bytes):2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ize: 64x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: 2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port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R/CBL Support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Screen Model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81" descr=""/>
          <p:cNvPicPr/>
          <p:nvPr/>
        </p:nvPicPr>
        <p:blipFill>
          <a:blip r:embed="rId10"/>
          <a:stretch/>
        </p:blipFill>
        <p:spPr>
          <a:xfrm>
            <a:off x="4572000" y="1905120"/>
            <a:ext cx="430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5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286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, ROM versions 9.0 or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85" descr=""/>
          <p:cNvPicPr/>
          <p:nvPr/>
        </p:nvPicPr>
        <p:blipFill>
          <a:blip r:embed="rId10"/>
          <a:stretch/>
        </p:blipFill>
        <p:spPr>
          <a:xfrm>
            <a:off x="5029200" y="1600200"/>
            <a:ext cx="37576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286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82" descr=""/>
          <p:cNvPicPr/>
          <p:nvPr/>
        </p:nvPicPr>
        <p:blipFill>
          <a:blip r:embed="rId10"/>
          <a:stretch/>
        </p:blipFill>
        <p:spPr>
          <a:xfrm>
            <a:off x="5710320" y="609480"/>
            <a:ext cx="2638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 the beginning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 Instruments started on April 24, 1916, under a different n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ic hand-held calculator was invented in 1967, by Jack Kilby, Jerry Merryman, and James Van Ta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calc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38098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71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48x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ViewScreen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80" descr=""/>
          <p:cNvPicPr/>
          <p:nvPr/>
        </p:nvPicPr>
        <p:blipFill>
          <a:blip r:embed="rId10"/>
          <a:stretch/>
        </p:blipFill>
        <p:spPr>
          <a:xfrm>
            <a:off x="4952880" y="1219320"/>
            <a:ext cx="41911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9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1925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 128x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92" descr=""/>
          <p:cNvPicPr/>
          <p:nvPr/>
        </p:nvPicPr>
        <p:blipFill>
          <a:blip r:embed="rId10"/>
          <a:stretch/>
        </p:blipFill>
        <p:spPr>
          <a:xfrm>
            <a:off x="4267080" y="220968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71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83" descr=""/>
          <p:cNvPicPr/>
          <p:nvPr/>
        </p:nvPicPr>
        <p:blipFill>
          <a:blip r:embed="rId10"/>
          <a:stretch/>
        </p:blipFill>
        <p:spPr>
          <a:xfrm>
            <a:off x="5943600" y="838080"/>
            <a:ext cx="2666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6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983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86small" descr=""/>
          <p:cNvPicPr/>
          <p:nvPr/>
        </p:nvPicPr>
        <p:blipFill>
          <a:blip r:embed="rId10"/>
          <a:stretch/>
        </p:blipFill>
        <p:spPr>
          <a:xfrm>
            <a:off x="4800600" y="1295280"/>
            <a:ext cx="409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3+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1921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83p" descr=""/>
          <p:cNvPicPr/>
          <p:nvPr/>
        </p:nvPicPr>
        <p:blipFill>
          <a:blip r:embed="rId10"/>
          <a:stretch/>
        </p:blipFill>
        <p:spPr>
          <a:xfrm>
            <a:off x="5791320" y="838080"/>
            <a:ext cx="2527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7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983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 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73" descr=""/>
          <p:cNvPicPr/>
          <p:nvPr/>
        </p:nvPicPr>
        <p:blipFill>
          <a:blip r:embed="rId10"/>
          <a:stretch/>
        </p:blipFill>
        <p:spPr>
          <a:xfrm>
            <a:off x="4876920" y="1066680"/>
            <a:ext cx="3200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9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585728 (HW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911360 (HW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100x1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89" descr=""/>
          <p:cNvPicPr/>
          <p:nvPr/>
        </p:nvPicPr>
        <p:blipFill>
          <a:blip r:embed="rId11"/>
          <a:stretch/>
        </p:blipFill>
        <p:spPr>
          <a:xfrm>
            <a:off x="5410080" y="1066680"/>
            <a:ext cx="3513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92+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585728 (HW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911360 (HW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128x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92pluscalc" descr=""/>
          <p:cNvPicPr/>
          <p:nvPr/>
        </p:nvPicPr>
        <p:blipFill>
          <a:blip r:embed="rId11"/>
          <a:stretch/>
        </p:blipFill>
        <p:spPr>
          <a:xfrm>
            <a:off x="4267080" y="2590920"/>
            <a:ext cx="46483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3+ Silver Edi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16399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83plusse" descr=""/>
          <p:cNvPicPr/>
          <p:nvPr/>
        </p:nvPicPr>
        <p:blipFill>
          <a:blip r:embed="rId10"/>
          <a:stretch/>
        </p:blipFill>
        <p:spPr>
          <a:xfrm>
            <a:off x="5715000" y="1143000"/>
            <a:ext cx="2362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yager 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2.5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128x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voy200low" descr=""/>
          <p:cNvPicPr/>
          <p:nvPr/>
        </p:nvPicPr>
        <p:blipFill>
          <a:blip r:embed="rId10"/>
          <a:stretch/>
        </p:blipFill>
        <p:spPr>
          <a:xfrm>
            <a:off x="4267080" y="1447920"/>
            <a:ext cx="45720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2500 DataMa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me out in 197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datamath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mments / Corre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d anything wrong with the information provided, please contact </a:t>
            </a:r>
            <a:r>
              <a:rPr b="0" lang="en-US" sz="32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William Whit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your time. This is just practice for a much bigger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R-XX Slide Ru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n 19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-50 made in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-52 made in 1975, programmable with magnetic card sto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sr10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41785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50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ktop printing model, invented in 197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5040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48769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59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in 1977, this was programmable, offering Solid State Software and a magnetic card rea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59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689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103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was made in 1978, was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MOS/LCD, and ran for 3000 hours on small silver oxide bat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1030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44956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1766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n 1981, this was 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ar powered calcu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176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01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30 SL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ar powered slide rule calculator was made in 1982. The TI-30 Galaxy was developed in Europe with pedagogical features in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30slr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6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man High School</cp:lastModifiedBy>
  <dcterms:modified xsi:type="dcterms:W3CDTF">2003-02-13T20:52:30Z</dcterms:modified>
  <cp:revision>42</cp:revision>
  <dc:subject/>
  <dc:title>PowerPoint Presentation</dc:title>
</cp:coreProperties>
</file>